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8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23.jpeg" ContentType="image/jpeg"/>
  <Override PartName="/ppt/media/image19.jpeg" ContentType="image/jpeg"/>
  <Override PartName="/ppt/media/image2.gif" ContentType="image/gif"/>
  <Override PartName="/ppt/media/image11.png" ContentType="image/png"/>
  <Override PartName="/ppt/media/image9.png" ContentType="image/png"/>
  <Override PartName="/ppt/media/image22.jpeg" ContentType="image/jpeg"/>
  <Override PartName="/ppt/media/type.wav" ContentType="audio/x-wav"/>
  <Override PartName="/ppt/media/projctor.wav" ContentType="audio/x-wav"/>
  <Override PartName="/ppt/media/image24.jpeg" ContentType="image/jpeg"/>
  <Override PartName="/ppt/media/image8.gif" ContentType="image/gif"/>
  <Override PartName="/ppt/media/image4.png" ContentType="image/png"/>
  <Override PartName="/ppt/media/image7.png" ContentType="image/png"/>
  <Override PartName="/ppt/media/image34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5.png" ContentType="image/png"/>
  <Override PartName="/ppt/media/applause.wav" ContentType="audio/x-wav"/>
  <Override PartName="/ppt/media/CLAP.WAV" ContentType="audio/x-wav"/>
  <Override PartName="/ppt/media/image35.png" ContentType="image/png"/>
  <Override PartName="/ppt/media/image27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30.gif" ContentType="image/gif"/>
  <Override PartName="/ppt/media/image28.png" ContentType="image/png"/>
  <Override PartName="/ppt/media/HORN8.WAV" ContentType="audio/x-wav"/>
  <Override PartName="/ppt/media/MTS_003.WAV" ContentType="audio/x-wav"/>
  <Override PartName="/ppt/media/camera.wav" ContentType="audio/x-wav"/>
  <Override PartName="/ppt/media/laser.wav" ContentType="audio/x-wav"/>
  <Override PartName="/ppt/media/TYPE.WAV" ContentType="audio/x-wav"/>
  <Override PartName="/ppt/media/BOB7T.WAV" ContentType="audio/x-wav"/>
  <Override PartName="/ppt/media/image21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6.png" ContentType="image/png"/>
  <Override PartName="/ppt/media/image36.png" ContentType="image/png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0E3-8AB1-4EC0-8D90-A1B6C99D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680-0BB5-4C1B-BCF2-B7F47335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98B-1E61-461A-84A4-90F8E9DCE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54F-E2EF-4DC2-9220-BA3FF7AF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88C8-A882-4BCE-8AF7-9889B5AF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D77A-318E-456B-A4A0-26ADC3B7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4FB8-0472-4768-A611-6012E9DE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3278-4AF2-44A4-9D9D-5EB8AF0A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2872-6EE3-49D3-B27F-400068C2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84FE-6C1A-4CBC-B0DE-5B49030A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A68F-BC9B-4642-8F42-61E2CC22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4EE-D66A-41CB-A630-D1673309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5FDB-C915-4E90-8846-BE3E5901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D083-488F-4F7E-8FBC-06A8824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06CE-D25F-4832-A0C7-C95FD5BC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C259-5EF6-4CB8-AB62-66CCC9AC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BC92-4BD5-4255-A864-E877A999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C329-A918-44CA-A9F1-EC7F42E6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EB51-65AC-4638-9A22-26BE3210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59D96-9F1A-4962-A411-FA5C2E22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9E369-7DCE-4DDB-8FFE-BF926E6F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1BDD-A73C-402D-A754-D6F29E89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ECB5-0A27-4A46-8C00-D0A0FDEB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9624-9963-4724-A859-F8BB29E0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2D5F7-CDAE-4583-A975-86325847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72E5-30BD-46EC-987D-7E6B3C46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D256-1F62-40B7-B9C0-E1343A71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BB4D-20E5-467B-94A7-1D478AF5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48489-EA92-4021-B651-64EB7818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91ED-7E3B-463C-BB5A-917EF24F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BE2F-6BBE-4227-BA4B-0808CABC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0A2-FB4E-46E6-8C0F-4B2A4FE9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96C-3742-4E32-9A75-7BDD8B8F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A619-AEAB-4C97-8E48-C4D40B0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9FF-255D-405F-96B4-A3BE5BAE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4C5-69BE-4475-8D75-8A6236E7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1A5F-4E5E-4E6E-B661-38B6946088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E815-C800-4825-9E39-420B7030CB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B006-EB47-4D7D-9EC0-CEF8E948BD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MTS_003.WAV"/><Relationship Id="rId4" Type="http://schemas.openxmlformats.org/officeDocument/2006/relationships/audio" Target="../media/HORN8.WAV"/><Relationship Id="rId5" Type="http://schemas.openxmlformats.org/officeDocument/2006/relationships/audio" Target="../media/MTS_003.WAV"/><Relationship Id="rId6" Type="http://schemas.openxmlformats.org/officeDocument/2006/relationships/audio" Target="../media/chimes.wav"/><Relationship Id="rId7" Type="http://schemas.openxmlformats.org/officeDocument/2006/relationships/audio" Target="../media/BOB7T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BOB7T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ORN8.WAV"/><Relationship Id="rId3" Type="http://schemas.openxmlformats.org/officeDocument/2006/relationships/audio" Target="../media/BOB7T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BOB7T.WAV"/><Relationship Id="rId7" Type="http://schemas.openxmlformats.org/officeDocument/2006/relationships/audio" Target="../media/HORN8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image" Target="../media/image3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MTS_003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1670760" y="533520"/>
            <a:ext cx="56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mall settlement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3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1320" y="685800"/>
            <a:ext cx="78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he road from Alice Springs to Tennant Cr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306800" y="62064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900000" y="49320"/>
            <a:ext cx="7488360" cy="654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0480" y="234936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63720" y="306864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70200" y="44370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古利人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5791320" y="4572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OOR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1600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orig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274320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first people of the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dysjmap3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11280" y="685800"/>
            <a:ext cx="3624120" cy="28861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859280" y="685800"/>
            <a:ext cx="3745080" cy="28144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1905120" y="3645000"/>
            <a:ext cx="5837040" cy="29970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284328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5300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52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1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839880"/>
            <a:ext cx="800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Please translate the sentence in fou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们可能去露营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19280" y="23623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 is possible/likely/probable that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120" y="3505320"/>
            <a:ext cx="77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are likely to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426708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ybe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510552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ma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have possibly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Australia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066680" y="380880"/>
            <a:ext cx="682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581120" y="1905120"/>
          <a:ext cx="55054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1905120"/>
                    <a:ext cx="5505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st rea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8380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in idea of each para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8640" y="1609560"/>
            <a:ext cx="2043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16765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arliest settlers--Koo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ways of lif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31240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pop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3886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langua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3828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ate of being citizen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Buterfl1" descr=""/>
          <p:cNvPicPr/>
          <p:nvPr/>
        </p:nvPicPr>
        <p:blipFill>
          <a:blip r:embed="rId2"/>
          <a:stretch/>
        </p:blipFill>
        <p:spPr>
          <a:xfrm>
            <a:off x="8626320" y="634032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69960" y="55080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9480" y="1676520"/>
            <a:ext cx="834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6960" y="17478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0040" y="225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0040" y="3187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9000" y="4181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71640" y="692280"/>
            <a:ext cx="77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 after the arrival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 they killed thousands and thousands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 with white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18160" y="76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17800" y="198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6712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085840" y="-85680"/>
            <a:ext cx="45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9240" y="328680"/>
            <a:ext cx="20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5335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Europe           B Africa            C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“Aborigines” means______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 oldest races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a strong system of society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 first people of a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  This means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y strongly believed in their spiritual faith and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they didn’t develop a civilization of their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y wanted to be the most important race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96200" y="547560"/>
            <a:ext cx="4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1843200"/>
            <a:ext cx="4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95480" y="4343400"/>
            <a:ext cx="4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119160"/>
            <a:ext cx="9144000" cy="71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growing different crops and veget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inventing and selling different kinds of fishing nets and hunt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fishing , hunting animals and gathering roots, nuts and fru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foreign settlers brought new disease which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foreign settlers seized their land and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 both A and 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09880" y="1062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7638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576360" y="162000"/>
            <a:ext cx="824364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6. The underlined word in the sentence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Whenever the kooris </a:t>
            </a:r>
            <a:r>
              <a:rPr b="1" lang="zh-CN" sz="3000" spc="-1" strike="noStrike" u="sng">
                <a:solidFill>
                  <a:srgbClr val="ffff00"/>
                </a:solidFill>
                <a:uFillTx/>
                <a:latin typeface="Times New Roman"/>
              </a:rPr>
              <a:t>defended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their rights, they were killed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means 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gave up   B. caught  C. looked for  D.fought f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7.In the passage the writer wants to tell us mainly about____  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  how Australia was discov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   the first Australians ---Koor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   how foreign settlers treated Kooris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D.  where Kooris came fro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588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718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31640" y="30240"/>
            <a:ext cx="65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Check the answers to Ex3 on Page 15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15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Don’t go too far in the bush, otherwise you may get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210168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Don’t throw the cigarette end out of the window, otherwise you may start a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8440" y="309240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Before you return the car, make sure you clean/wash the dirt of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42051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ow about having a camp/going camping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476892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Some people suggested going beyond the mountain to have a l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080" y="575928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It is said that here is a valley of death. No one has dared to get into it 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2360" y="620640"/>
            <a:ext cx="87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Please tap the cigarette ash into the ashtray. Don’t tap it on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33520" y="490680"/>
            <a:ext cx="828036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Which can be inferred from the passag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Australia and Asia used to be joined together by a long bridg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Kooris invented a strangely shaped tool that would bring back whatever it h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he first Australians might be from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Kooris children enjoy equal rights of education with white childr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9608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76212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48520" y="7621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6360" y="12193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18160" y="161460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55560" y="205740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65800" y="247824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80000" y="289548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19560" y="334332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04000" y="3809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5440" y="4191120"/>
            <a:ext cx="24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eases, 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49240" y="46483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2920" cy="5181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3581280" y="457200"/>
            <a:ext cx="556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boriginal man of South Australia wears a cap of plaited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打成辫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straw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稻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carries a decorated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装饰了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oomera, a stick used to cradle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支撑，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 spear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give added leverage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杠杆作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in throw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7848720" y="5029200"/>
            <a:ext cx="960480" cy="156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815080" cy="42559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332000" y="4282920"/>
            <a:ext cx="665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aboriginal family is at home in South Australia; the woman is spinning (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w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673280" y="115920"/>
            <a:ext cx="5562720" cy="40719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28720" y="43657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origines work in a lumber (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木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forest on Melville Island off the coast near Darw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734280" y="2286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5480" y="99072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1981080"/>
            <a:ext cx="808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The old house has been handed down for 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4920" y="3276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In poor families,clothes may be handed down 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54100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The story was handed down from mouth to mouth by the e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24920" y="46483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故事是老一辈们口传下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353400" y="1062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762120"/>
            <a:ext cx="4648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ch out one's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ut up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举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end me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帮我一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every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各个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one hand,…one the other hand,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方面，…另一方面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76920" y="1523880"/>
            <a:ext cx="441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by hand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用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ff!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请勿动手！不许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s up!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举起手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sth. to sb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把某物递给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in (=turn in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上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ut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分发，交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0880" y="5867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-me-dow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67080" y="6172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hand  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3520" y="15228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the elders = the old peo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838080"/>
            <a:ext cx="81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(the oldest form of art )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</a:rPr>
              <a:t>y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scovered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1295280"/>
            <a:ext cx="82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o far discovered= that has been discover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27760" y="1828800"/>
            <a:ext cx="61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840" y="22096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9480" y="266688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40960" y="22096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25320" y="266688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3048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3920" y="420516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She is an experienced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1080" y="35812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 be/become experience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/i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5400" y="4876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They were quite experienced at teaching begin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2120" y="5486400"/>
            <a:ext cx="686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He is quite experienced in this kind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6095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He is experienced at repairing c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04920" y="38088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make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e was making herself up when she heard a knock at the doo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" y="4800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Take sth as one’s ow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…占为己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54100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He took this house as his own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Mike took the pen as a penc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80880" y="6094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be intended for---be provided for or designed for a particular purpose or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480" y="2133720"/>
            <a:ext cx="7543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ok is intended for 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The shot was intended for the President killed one of his sold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1055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The seats in the front are intended for the chairman and honourable gu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5943600"/>
            <a:ext cx="3581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ok) curiously (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5943600"/>
            <a:ext cx="335268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ground(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86600" y="5867280"/>
            <a:ext cx="20574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938160" y="30492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.rather than---instea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-60480" y="1219320"/>
            <a:ext cx="905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,rather than I,should be punished.(instead of 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ather than sleep all day,I prefer to go for an outing.(Instead of slee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He will wait for the lift rather than climb the stairs.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宁可等电梯，也不爬楼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5867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She's pretty rather than beautifu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她漂亮但并不美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32767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’d like to have a cold drink rather than coff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I’ll go there by bus rather than by tax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38088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do…rather 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would rather do…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prefer to do…rather than do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宁可…… 不做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7292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宁可回家，也不愿意呆在这什么都不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3535200"/>
            <a:ext cx="8839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go home rather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would rather go home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prefer to go home rather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76320" y="330120"/>
            <a:ext cx="9132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).Kooris developed a way of life that was suitable for this hot and in many places dry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利人形成了适应这种炎热、干燥环境自己的生活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080" y="220968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suitable for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合，适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fit f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适，适合，胜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uitable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强调适合某种环境、情况或某种特殊需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t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用来表示适合某种目的、用途或某人有能力胜任某工作或职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8080" y="533412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man is not fit for th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se clothes are suitable for a week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914400" y="10666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.Just over 200 years ago Kooris made up 100% of the population, but today they only make up a little over 1% of the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就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年前，古利人占澳大利亚人口总数的百分之百，但今天他们只占据澳大利亚人口的百分之一多一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04920" y="210960"/>
            <a:ext cx="883908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1) make up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组成，占据；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Hans make up 90% of the population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She was making herself up when she heard a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2) population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人口（不可数）；人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What is the population of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bout two thirds of the population in China are peas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0" y="0"/>
            <a:ext cx="9144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Discus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990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have many of Koori languages disappeared or been lo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28195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were Kooris made citizens of Australia, 53.000 years after arriving the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dysjmap33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736" name="n15" descr=""/>
          <p:cNvPicPr/>
          <p:nvPr/>
        </p:nvPicPr>
        <p:blipFill>
          <a:blip r:embed="rId4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5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0" y="0"/>
            <a:ext cx="9144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920" y="12193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n did the earliest settlers come and where did they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 did they hand down their customs, knowledge and memo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way of their lif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population in the past and what is the population now? 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about the education of Koori childr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ppened to the Koori langu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dysjmap33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28600" y="533520"/>
            <a:ext cx="80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Retell the text using the following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0" y="53352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040" y="2720880"/>
            <a:ext cx="32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95732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28600" y="2971800"/>
            <a:ext cx="2286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irth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43200" y="2895480"/>
            <a:ext cx="28954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ous(st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72200" y="289548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280" y="5943600"/>
            <a:ext cx="3353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ying) outdo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9880" y="594360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19920" y="5943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gue about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918160" y="479736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7238880" y="5715000"/>
            <a:ext cx="1905120" cy="92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816840" y="479736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3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3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w</cp:lastModifiedBy>
  <dcterms:modified xsi:type="dcterms:W3CDTF">2004-08-09T12:33:56Z</dcterms:modified>
  <cp:revision>104</cp:revision>
  <dc:subject/>
  <dc:title>PowerPoint 演示文稿</dc:title>
</cp:coreProperties>
</file>